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004-4E87-4E19-9A44-40E6A9FC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CED-D70B-4D09-A738-1F54379B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66E9-F4C4-481F-A92E-B50D3052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805-ECE6-450F-B1BA-D8612EBC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6AC-5B3C-46A4-AD9A-110606C3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E4E-0910-4C4B-ADA7-80619676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7303-1B2C-42CB-9654-C57DB205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5870-D1EA-41D4-9806-9DC98445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D92D-BE6F-4278-961F-38079B83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2B1-1F76-4FC1-92B5-9CC63248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AC0-121E-45B7-9172-E0061DDC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27A-98A4-4DF1-8E88-064702B1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4929-E954-4578-A571-55D7B55FA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3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3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8760" y="1965240"/>
            <a:ext cx="4686480" cy="293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2:25:37Z</dcterms:created>
  <dc:creator>Mark S. Spencer</dc:creator>
  <dc:description/>
  <dc:language>en-US</dc:language>
  <cp:lastModifiedBy>Mark S. Spencer</cp:lastModifiedBy>
  <dcterms:modified xsi:type="dcterms:W3CDTF">2008-12-06T16:20:46Z</dcterms:modified>
  <cp:revision>20</cp:revision>
  <dc:subject/>
  <dc:title>Slide 1</dc:title>
</cp:coreProperties>
</file>